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E608-135B-4187-9589-8D1782D8D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8E32-A7D4-42C6-B613-4D1ABF2D5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222C-E684-4AEE-B5F7-C3A05BBC1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7618-0684-417F-B53A-F1DE6FE82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83AC-C11A-4F0A-AEBB-90F3913E6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3B7E-E3F5-40A6-A6AF-4D2C5676A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8AF7-E01B-41F5-A255-488CADA2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7F89-18D7-4D54-A36C-AB5B6A9C8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ns grade, crosses expectations, broad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4271-3EB4-4E6A-84E7-342D0789D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80FB-5AD1-4D6A-9B28-33E1495B2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2B40-3A7F-41E2-9E4C-4DB72D97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89A6-866A-4005-962F-F00C89322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 discussion; mention that our first question is warm and fuzzy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7395-1116-4CDA-B1A5-E99A559D3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open routed vs open-e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8647-DDA7-49C0-ACCB-655CF0574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no more than 25 minutes on slides 19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80B6-9DA5-4361-B554-48D031836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AFF8-1F4D-4AA8-83E6-57B9E6813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C0D8-633A-40FA-94ED-03CDFAF9E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C753-4F0F-4B1B-BACC-58174D1A3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341E-E1BF-4C48-A3D2-0909EC805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8F4C-5C09-4367-8B2B-1F54287C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795B-22D7-4438-94A0-2FEADCA5E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B1A7-7499-43FA-B2C9-C1BA124F7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A44E-246A-4471-B1CD-5A585C6FB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5886-B387-4792-B3DC-804DBA3B4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3F3F-2436-4899-BB79-4F51CDE49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5411-6C57-4F40-8534-607104A99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F317-55F1-41B2-824B-8AB1EC766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CKT-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1E3D-7232-4637-BE0B-B26DB8F7F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n example, e.g. your goal might be that students can use order of operations, but why is that your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DC11-8FCF-417B-90CC-BBDF18D4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124E-9AAA-4E9E-9AE1-6E6DC9339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3C2F-81FC-4C8D-AD1A-9263F67A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2A81-349C-45D3-996B-B216385A4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D60D-416F-4D18-A27F-EFF0C82F0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DE6A-2AD0-4A5F-86D7-07966335B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594B-31EF-4B5E-9D43-FAC686F69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 prior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drop if time is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E81D-623E-45FC-A719-1F399CCC2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9280-B2DA-4FFA-A658-5B97A9EC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23A1-288E-41D9-ACF7-9AB9DBE42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6FB5-DB67-41E1-AEE5-DD7E16CBB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ALSO HAVE QUESTION RE COULD USE 1 POINT, 2 POINTS OR 3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BE60-9CD1-4975-8E0D-253F5160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ALSO HAVE QUESTION RE COULD USE 1 POINT, 2 POINTS OR 3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ello. I’m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 am pleased to introduce this Professional Learning for Mathematics Leaders – not just a three-part series initiative – part of Math GAINS 2009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 have seen significant capacity building in 7-12 mathematics over the past few years, and we are beginning to see significant gains for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 Just a 3-part PLMLC series” is designed to model successful approaches, provide practice opportunities, and inspire even greater gains in 2009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A1F5-84A8-42CB-8503-C0558B9D3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578D-40EE-4D21-ADD3-C57F93155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B1C5-8B6A-4D50-AD8C-05EB9C338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0312-3814-4955-AFC1-458A3F4F3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examples are: -10. -9, -8,..  Or -10, -9.9, -9.8, … or -10, -9.99, -9.98,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86D-FC9F-4253-A91A-157C0C0F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F67-317D-40F8-A6EF-9420D516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84B-56EA-441C-BE02-4475B6FE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E21-C5E8-498C-9467-4E0DF3ED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A79-B4BF-45FF-BBA6-521ECE27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5E9-3094-45CA-8976-661BBD1F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F5E-6119-45B7-898A-BD5F9417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0B5-20C8-4F19-A679-4E6E7C24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ABC-DA73-4238-8FA0-112D7978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5B8-D490-4337-BE8E-558C848A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E33-478E-4C51-8D4D-01A2CDFB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E1A-CEEA-42D0-B424-08C3DCDB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66A2-6FAB-424C-855A-C6531CDA2B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dugains.ca/newsite/math/coachformath.htm#Professional_Learning_for_Mathematics_Leaders_and_Coaches_&#8211;_not_just_a_3_part_series_&#8211;_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914400" y="4724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Day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0" y="800280"/>
            <a:ext cx="263700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2303640" y="1125360"/>
            <a:ext cx="671328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360" y="573408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isa Suurtamm                                                           Trish St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2895480"/>
            <a:ext cx="7417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1A58-8A7E-4AEB-AF95-DF0950EFAA8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86364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63640" y="144936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0308"/>
                </a:solidFill>
                <a:latin typeface="Comic Sans MS"/>
              </a:rPr>
              <a:t>A linear growing pattern starts at -10 and grows very slowly. What might the pattern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D4FE-BD2C-4316-9D94-10771B2AC0B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863640" y="3429000"/>
            <a:ext cx="75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What do you think the important underlying math idea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86364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0B5F-C5AC-45FD-BFA3-77BCD909979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700280"/>
            <a:ext cx="774072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 makes sense that there are a lot of linear patterns that start with the same term becaus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ext matters in deciding how fast a pattern grows becaus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ar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63640" y="2241720"/>
            <a:ext cx="770076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A Big Idea is a statement of an idea that is central to the learning of mathematics..”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ndy Char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1484-5695-4589-99AC-F75FA9454D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905120"/>
            <a:ext cx="7416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“…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.one that connects numerous mathematical understandings into a coherent whol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ian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2E49-DC3E-4C03-A08D-F5F4DD0368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008000" y="512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42920" y="1557360"/>
            <a:ext cx="7416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 a topic name nor an overall expect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UT a statement that describes a fundamental mathematical conne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469F-7314-4D75-BB91-CD7FB1762A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16000" y="508464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It provides a lens in which to embed new lear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95280" y="99072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Comic Sans MS"/>
              </a:rPr>
              <a:t>Big Ideas for Pattern &amp;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71640" y="1916280"/>
            <a:ext cx="7416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et of big ideas for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atterns and algeb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listed in the program booklet you’ve rece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0308"/>
                </a:solidFill>
                <a:latin typeface="Comic Sans MS"/>
              </a:rPr>
              <a:t>Take a few moments to read through these big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CE86-A2B7-431E-ABB1-90006B94FDA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486900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Comic Sans MS"/>
              </a:rPr>
              <a:t>Which of the Big Ideas do you think our minds-on activity relates 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5280" y="1015920"/>
            <a:ext cx="84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Comic Sans MS"/>
              </a:rPr>
              <a:t>Big Ideas for Pattern &amp;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934920" y="2384280"/>
            <a:ext cx="741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r minds-on activity relates to both BI 1 and BI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B4D0-FC1D-487C-990B-6C0FBEEC18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: BI #1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s represent identified regularities.  There is always an element of repetition that must be described for the pattern to be ext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s always repeat and you have to know how they repeat to exten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: BI #2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ideas in other strands of mathematics are simplified by using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often use patterns to learn ideas about number, geometry, measurement, and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5493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The Four Royal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160640"/>
            <a:ext cx="3448080" cy="421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40000" y="1089000"/>
            <a:ext cx="4464000" cy="429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332000" y="981000"/>
            <a:ext cx="5364000" cy="4280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0000" y="1233360"/>
            <a:ext cx="5976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lgebra: BI #3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ebraic reasoning is a process of describing and analyzing generalized mathematical relationships and change using words and symb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gebraic reasoning is a way to understand mathematical relationships that apply to a large group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 &amp; Algebra: BI #4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epresentations of relationships (e.g. numeric, graphic, geometric, algebraic, verbal, concrete/pictorial) or patterns highlight different characteristics or behaviours and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epresentations of relationships or patterns show different things about the relationship and each might be more useful in a certain si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 &amp; Algebra: BI #5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mathematical relationships or patterns helps us see that there are classes of relationships or patterns and provides insight into each member of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aring mathematical relationships or patterns helps you see that groups of relationships can behave in very similar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ttern &amp; Algebra: BI #6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8920" y="1807920"/>
            <a:ext cx="4038480" cy="4724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information about a mathematical pattern or relationship can sometimes, but not always, allow us to predict other information about that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844280"/>
            <a:ext cx="403848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knowing a few things about a pattern or relationship allows you to predict other things about that pattern or relation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03280" y="1015920"/>
            <a:ext cx="81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47640" y="2205000"/>
            <a:ext cx="78850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126"/>
              </a:spcBef>
              <a:spcAft>
                <a:spcPts val="1488"/>
              </a:spcAft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wo sets of questions will be circulated that are designed to bring out the big idea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488"/>
              </a:spcAft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hoose one of those sets of question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488"/>
              </a:spcAft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atch each question to the big idea it is most likely to elici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A0DD-C0AF-42F5-91FE-DAE23CB9C1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95280" y="990720"/>
            <a:ext cx="84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71640" y="2276640"/>
            <a:ext cx="7416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big idea did you find easiest to match first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did you find hardest to match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4A31-5CBB-4EB2-8F68-21A11AA9C9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87280" y="99072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19280" y="2168640"/>
            <a:ext cx="7416720" cy="38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449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of the questions did you like best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1720" indent="-449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notice about the question sty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1720" indent="-449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26FF-FCEF-4AB4-95C2-0C724F7909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31640" y="990720"/>
            <a:ext cx="84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47640" y="2205000"/>
            <a:ext cx="788508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do you think it’s important that students know that pattern rules need to be defined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e70308"/>
                </a:solidFill>
                <a:latin typeface="Comic Sans MS"/>
              </a:rPr>
              <a:t>Big Idea 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2E29-66D6-4769-91FA-2FF0DCD4D8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99072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47640" y="1952640"/>
            <a:ext cx="7993080" cy="42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you think of other instances where number, geometry, measurement or data topics are taught using pattern concepts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e70308"/>
                </a:solidFill>
                <a:latin typeface="Comic Sans MS"/>
              </a:rPr>
              <a:t>Big Idea 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BC98-245B-4F15-B1C9-41C8827374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98100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84360" y="2205000"/>
            <a:ext cx="810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 the questions that matched </a:t>
            </a:r>
            <a:r>
              <a:rPr b="0" lang="en-US" sz="4000" spc="-1" strike="noStrike">
                <a:solidFill>
                  <a:srgbClr val="e70308"/>
                </a:solidFill>
                <a:latin typeface="Comic Sans MS"/>
              </a:rPr>
              <a:t>Big Idea 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show the notion of generalization? Analyzing relationships or ch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B839-BF6C-41C4-BD52-20960FA2DE5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3280" y="1628640"/>
            <a:ext cx="8424720" cy="4610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9810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47640" y="224172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e questions that matched </a:t>
            </a:r>
            <a:r>
              <a:rPr b="0" lang="en-US" sz="4000" spc="-1" strike="noStrike">
                <a:solidFill>
                  <a:srgbClr val="e70308"/>
                </a:solidFill>
                <a:latin typeface="Comic Sans MS"/>
              </a:rPr>
              <a:t>Big Idea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roaden a student’s understanding of the value of multiple repres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6C2E-180B-4BDC-8025-52B7D3F7FA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87280" y="99072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11280" y="2276640"/>
            <a:ext cx="7921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e questions that matched </a:t>
            </a:r>
            <a:r>
              <a:rPr b="0" lang="en-US" sz="4000" spc="-1" strike="noStrike">
                <a:solidFill>
                  <a:srgbClr val="e70308"/>
                </a:solidFill>
                <a:latin typeface="Comic Sans MS"/>
              </a:rPr>
              <a:t>Big Idea 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elp broaden students’ ideas of what kinds of relationships there 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D0C7-1A24-4C6A-B782-919889A659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16000" y="990720"/>
            <a:ext cx="89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me questions about your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34920" y="2565360"/>
            <a:ext cx="741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do you think </a:t>
            </a:r>
            <a:r>
              <a:rPr b="0" lang="en-US" sz="4000" spc="-1" strike="noStrike">
                <a:solidFill>
                  <a:srgbClr val="e70308"/>
                </a:solidFill>
                <a:latin typeface="Comic Sans MS"/>
              </a:rPr>
              <a:t>Big Idea 6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a valuable one for student fo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C0CD-3A44-4187-A072-059276CF88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828800"/>
            <a:ext cx="741708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8139-3866-43F2-8AE8-209221386A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ing big ideas with stu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42920" y="28526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kes it easier for them to make connections to prior knowledge and to move forward in new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8AB-2071-4093-9EE2-9F88DB2396F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2205000"/>
            <a:ext cx="7417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y thinking about the big ideas, it becomes easier to </a:t>
            </a:r>
            <a:r>
              <a:rPr b="0" i="1" lang="en-US" sz="3600" spc="-1" strike="noStrike">
                <a:solidFill>
                  <a:srgbClr val="333399"/>
                </a:solidFill>
                <a:latin typeface="Comic Sans MS"/>
              </a:rPr>
              <a:t>develop appropriate less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333399"/>
                </a:solidFill>
                <a:latin typeface="Comic Sans MS"/>
              </a:rPr>
              <a:t>goal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3600" spc="-1" strike="noStrike">
                <a:solidFill>
                  <a:srgbClr val="333399"/>
                </a:solidFill>
                <a:latin typeface="Comic Sans MS"/>
              </a:rPr>
              <a:t>appropriate consolidating ques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bring them 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1314-6CE8-4341-9B9E-FAB810AC3B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24360" y="1844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611280" y="58428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03280" y="1736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can use a big idea to hone in on an appropriate lesson go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9C50-1900-4A32-A8B0-CE1B34E0463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871640" y="3645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792000" y="4292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5940360" y="5589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own Arrow 11"/>
          <p:cNvSpPr/>
          <p:nvPr/>
        </p:nvSpPr>
        <p:spPr>
          <a:xfrm>
            <a:off x="6408720" y="497664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own Arrow 15"/>
          <p:cNvSpPr/>
          <p:nvPr/>
        </p:nvSpPr>
        <p:spPr>
          <a:xfrm rot="16200000">
            <a:off x="4136760" y="3431880"/>
            <a:ext cx="380880" cy="16002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5977080" y="328464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15"/>
          <p:cNvSpPr/>
          <p:nvPr/>
        </p:nvSpPr>
        <p:spPr>
          <a:xfrm rot="5400000">
            <a:off x="4496760" y="5051160"/>
            <a:ext cx="380880" cy="16002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08000" y="55897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onsolidating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81560" y="728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"/>
          <p:cNvSpPr/>
          <p:nvPr/>
        </p:nvSpPr>
        <p:spPr>
          <a:xfrm>
            <a:off x="576360" y="297000"/>
            <a:ext cx="43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Exampl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4788000" y="4724280"/>
            <a:ext cx="36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99"/>
                </a:solidFill>
                <a:latin typeface="Arial"/>
              </a:rPr>
              <a:t>Students will recognize when a graphical model is more useful and when an algebraic on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250920" y="134136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ic: Linea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287280" y="1881360"/>
            <a:ext cx="42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ation:  Determine other representations of a linear relation, given one re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n Arrow 11"/>
          <p:cNvSpPr/>
          <p:nvPr/>
        </p:nvSpPr>
        <p:spPr>
          <a:xfrm>
            <a:off x="5904000" y="3933720"/>
            <a:ext cx="304560" cy="60984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wn Arrow 15"/>
          <p:cNvSpPr/>
          <p:nvPr/>
        </p:nvSpPr>
        <p:spPr>
          <a:xfrm rot="16200000">
            <a:off x="3795840" y="2692440"/>
            <a:ext cx="380880" cy="844560"/>
          </a:xfrm>
          <a:prstGeom prst="downArrow">
            <a:avLst>
              <a:gd name="adj1" fmla="val 50000"/>
              <a:gd name="adj2" fmla="val 26393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464000" y="137628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 4:  Different representations of relationships or patterns show different things about them and which is more useful depends on the sit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wn Arrow 15"/>
          <p:cNvSpPr/>
          <p:nvPr/>
        </p:nvSpPr>
        <p:spPr>
          <a:xfrm rot="5400000">
            <a:off x="4272840" y="5203080"/>
            <a:ext cx="380880" cy="792000"/>
          </a:xfrm>
          <a:prstGeom prst="downArrow">
            <a:avLst>
              <a:gd name="adj1" fmla="val 50000"/>
              <a:gd name="adj2" fmla="val 24751"/>
            </a:avLst>
          </a:prstGeom>
          <a:solidFill>
            <a:srgbClr val="0000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257720"/>
            <a:ext cx="44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You have a graph of a linear relation with x-values from -10 to +10 plotted. You want to know the values of y for specific values of x.  For which values of x would you use the graphical form? the algebraic for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Lesson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7280" y="386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Consolidating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Relationships Among Big Ideas, Curriculum Expectations and Lesson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2744640"/>
            <a:ext cx="8099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iculum Expect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e first degree equations with non-fraction coefficients using a variety of tools (eg. 2x + 7 = 6x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63640" y="4149720"/>
            <a:ext cx="756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ask 1:  You are given 3 lesson goals, 3 Big Ideas, and 3 consolidating ques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termine which lesson goal connects to which Big Idea for this expectation and identify the appropriate consolidation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 #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epresent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ll recognize that solving an equation means determining an equivalent equation where the solution is more ob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equations are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 – 7 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 + 7 = x +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sure easier to see the unknown value in one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6000" y="512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Mathematics Coaching Cy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7053480" cy="5197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08360" y="2205000"/>
            <a:ext cx="25574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0308"/>
                </a:solidFill>
                <a:latin typeface="Arial"/>
              </a:rPr>
              <a:t>Establish norms for working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5985000"/>
            <a:ext cx="2449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presen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determining an equivalent equation where the solution is more ob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ion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or disagre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 – 4 = 17 + 3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ally the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0.5 in disgui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easier to sol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ight someone say that solving an equation is about finding what easier question is being disgu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a few thin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that you know some information (an output and a rule), so you should be able to figure out the other information (the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a few thin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that you know some information (an output and a rule), so you should be able to figure out the other information (the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ion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ONE of these two things: x = 2y = 20 OR 3x + 2 = 20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 lets you figure out what x is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reasoning is a way 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using the change rule embedded in the equation symbolically to describe one specific example of the effect of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lve first degree equ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36640"/>
            <a:ext cx="40384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#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reasoning is a way to underst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recognize that solving an equation means using the change rule embedded in the equation symbolically to describe one specific example of the effect of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0920" y="1773000"/>
            <a:ext cx="4038840" cy="472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ion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suggests that you triple a number and subtract if from 2. What equation would you solve to figure out the input if you know the output is 5?  How would you solv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19280" y="990720"/>
            <a:ext cx="773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Relationship among Expectations, Big Ideas,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900000" y="3537000"/>
            <a:ext cx="7417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ing at the Posing Powerful Questions Template (PPQT) as a t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7951-CE66-4554-80DF-66F3C21D86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Posing Powerfu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066680" y="18288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FB5D-9E98-4737-8685-D303509BA2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Picture 3.png"/>
          <p:cNvPicPr/>
          <p:nvPr/>
        </p:nvPicPr>
        <p:blipFill>
          <a:blip r:embed="rId1"/>
          <a:stretch/>
        </p:blipFill>
        <p:spPr>
          <a:xfrm>
            <a:off x="0" y="1979640"/>
            <a:ext cx="8991720" cy="2851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76320" y="2286000"/>
            <a:ext cx="87627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4221000"/>
            <a:ext cx="8763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881360"/>
            <a:ext cx="882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(s) for a Specific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997360"/>
            <a:ext cx="89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924280"/>
            <a:ext cx="889308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icul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first degree equations with non-fraction coefficients using a variety of tools (eg. 2x + 7 = 6x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797360"/>
            <a:ext cx="87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(s) Addressed by th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852640"/>
            <a:ext cx="8964720" cy="19083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079640" y="2149560"/>
            <a:ext cx="7556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5673-E8DA-4F1C-9868-8C1DF538CAF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1193760" y="26067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includes knowing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you have that goal. --- What’s the point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A9A6-B43C-41BF-BB38-FC042BE6E0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792000" y="1052640"/>
            <a:ext cx="712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26920" y="2637000"/>
            <a:ext cx="74170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31F8-51F7-413A-B55D-0AB0CEEF1C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441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</a:rPr>
              <a:t>Whole 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341360"/>
            <a:ext cx="7632720" cy="5497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all part of a learning col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speaking, address the whol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actions are intended to move the collecti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 in need of an answer, ask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 fully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079640" y="2023920"/>
            <a:ext cx="74167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D20B-6DFD-4845-967B-5C73C2D795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E01C-B3AE-4E39-BB4D-C023295E4A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066680" y="289548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d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F279-34C1-4834-B1CC-E466244658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Picture 1.png"/>
          <p:cNvPicPr/>
          <p:nvPr/>
        </p:nvPicPr>
        <p:blipFill>
          <a:blip r:embed="rId1"/>
          <a:stretch/>
        </p:blipFill>
        <p:spPr>
          <a:xfrm>
            <a:off x="1447920" y="4114800"/>
            <a:ext cx="7048440" cy="144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DC57-2C84-4CE9-ABC2-0A0EE7E634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84DB-AF71-47C8-B887-33484A83A74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Picture 3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88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3352680" y="3657600"/>
            <a:ext cx="5639040" cy="30492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F042-8A3F-4FF8-882A-D9DD9C8298F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Picture 4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6781680" y="2514600"/>
            <a:ext cx="2362320" cy="38088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828800" y="2895480"/>
            <a:ext cx="1981080" cy="22860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410080" y="3429000"/>
            <a:ext cx="312444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905120" y="39625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6934320" y="37339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E3FA-649C-42BA-9CD1-FF5812F16B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Picture 5.pn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EFAF-344D-432D-BD4A-04CF9E9139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431640" y="404640"/>
            <a:ext cx="67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f this is the goal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B310-AC93-4D03-AC68-CAF9BFEB7FD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00" y="1376280"/>
            <a:ext cx="8928000" cy="105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(s) for a Specific 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 will recognize when it’s useful to use generalization when describing a pat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5373720"/>
            <a:ext cx="8964720" cy="105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Idea(s) Addressed by the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ebraic reasoning is a way to understand mathematical relationships that apply to a large group of sit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9280" y="2673360"/>
            <a:ext cx="8964720" cy="244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iculum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 linear growing patterns, using a variety of tools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predictions about linear growing patterns, through investigation, with concrete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pattern rules that generate a pattern by adding or subtracting a constant or multiply or dividing by a constant to get the next term with pattern rules that use the term number to describe the general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6000" y="1305000"/>
            <a:ext cx="8928000" cy="1152360"/>
          </a:xfrm>
          <a:prstGeom prst="rect">
            <a:avLst/>
          </a:prstGeom>
          <a:solidFill>
            <a:srgbClr val="ffff99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337000"/>
            <a:ext cx="9144000" cy="1079640"/>
          </a:xfrm>
          <a:prstGeom prst="rect">
            <a:avLst/>
          </a:prstGeom>
          <a:solidFill>
            <a:srgbClr val="ffff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673360"/>
            <a:ext cx="9144000" cy="2448000"/>
          </a:xfrm>
          <a:prstGeom prst="rect">
            <a:avLst/>
          </a:prstGeom>
          <a:solidFill>
            <a:srgbClr val="ffff99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1813-A60C-4253-A591-D85A23ABE87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58920" y="728640"/>
            <a:ext cx="84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 the ‘Minds On’ need to be adjusted?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853920"/>
            <a:ext cx="7343640" cy="5747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08000" y="2637000"/>
            <a:ext cx="2376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ig Ideas in Patterns &amp;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785F-1C81-4AF3-B586-03676DAEA93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Picture 3.pn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88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3352680" y="3657600"/>
            <a:ext cx="5639040" cy="30492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8920" y="728640"/>
            <a:ext cx="84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 the ‘Action’ need to be adjusted?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A5DF-5436-4246-97D6-1231AD25C11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Picture 4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5"/>
          <p:cNvSpPr/>
          <p:nvPr/>
        </p:nvSpPr>
        <p:spPr>
          <a:xfrm>
            <a:off x="6781680" y="2514600"/>
            <a:ext cx="2362320" cy="38088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828800" y="2895480"/>
            <a:ext cx="1981080" cy="22860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410080" y="3429000"/>
            <a:ext cx="312444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905120" y="39625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6934320" y="3733920"/>
            <a:ext cx="220968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8920" y="728640"/>
            <a:ext cx="84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oes the ‘Consolidation’ need to be adjusted? If so,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863640" y="476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7" descr="Picture 1.pn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162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16000" y="4575240"/>
            <a:ext cx="842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e/Debrief Sample Ques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this stat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ay someone figures out terms 3, 4, 5 and 6 might be very different from the way that person figures out term 100 becaus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6000" y="4400640"/>
            <a:ext cx="8748720" cy="2457360"/>
          </a:xfrm>
          <a:prstGeom prst="rect">
            <a:avLst/>
          </a:prstGeom>
          <a:solidFill>
            <a:srgbClr val="ffff99">
              <a:alpha val="3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971640" y="2744640"/>
            <a:ext cx="7416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ollowing stated goals were taken from a series of lessons on linear relations in a grade 9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D5BB-1520-401D-8CB5-92F16EB2B8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3"/>
          <p:cNvSpPr/>
          <p:nvPr/>
        </p:nvSpPr>
        <p:spPr>
          <a:xfrm>
            <a:off x="719280" y="1413000"/>
            <a:ext cx="77994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 a relation using a table of values, a graph or a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direct and partial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properties of linear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 a linear relation in a differen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gnize whether a relation is linear or non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5EE2-7C71-455C-B02B-7EED518141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395280" y="62064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ask: Using the Posing Question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250920" y="2313000"/>
            <a:ext cx="8497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a partner, choose 1 of these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cus them to relate more explicitly to one or more of the big ide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 possible consolidating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20B5-463B-48D9-85A9-F2519B603F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79280" y="836640"/>
            <a:ext cx="83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Identify properties of linear 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592280"/>
            <a:ext cx="8964720" cy="1381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(s) for a Specific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will recognize why any two points on a line can be used to determine the slope and how that can b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141720"/>
            <a:ext cx="8928000" cy="174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iculum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, through investigation, various formulas for the slope of a line segment or a line and use the formulas to determine the slope of a line segment or a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110200"/>
            <a:ext cx="8893080" cy="174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(s) Addressed by th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formation about a mathematical relationship can sometimes allow us to predict other information about that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16000" y="800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ssible Consolidatio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Picture 1.pn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26226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16000" y="4329000"/>
            <a:ext cx="8712000" cy="1747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e/Debrief Sample Ques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pictures, numbers, words, or graphs and explain why it doesn’t matter if x-values are 1 apart or 2 apart or even 20 apart to calculate a sl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216000" y="800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Possible Consolidatio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Picture 1.png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26226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16000" y="4329000"/>
            <a:ext cx="8712000" cy="1937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e/Debrief Sample Ques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a situation that a linear relation would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how to change one thing about it so that a linear relation doesn’t work any more as a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ve to Breakout Roo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9800" y="2241720"/>
            <a:ext cx="332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469b"/>
                </a:solidFill>
                <a:latin typeface="Arial"/>
              </a:rPr>
              <a:t>Group A &amp; B </a:t>
            </a:r>
            <a:br>
              <a:rPr sz="3600"/>
            </a:br>
            <a:r>
              <a:rPr b="1" lang="en-US" sz="3600" spc="-1" strike="noStrike">
                <a:solidFill>
                  <a:srgbClr val="0d469b"/>
                </a:solidFill>
                <a:latin typeface="Arial"/>
              </a:rPr>
              <a:t>(Liisa &amp; Lind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469b"/>
                </a:solidFill>
                <a:latin typeface="Arial"/>
              </a:rPr>
              <a:t>Room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3608280"/>
            <a:ext cx="34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roup C &amp; 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Trish &amp; Chr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oom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61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ofessional Learning for Mathematics Leaders and Coache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673000" y="44193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just a 3-part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GAINS_Globe_70smws"/>
          <p:cNvPicPr/>
          <p:nvPr/>
        </p:nvPicPr>
        <p:blipFill>
          <a:blip r:embed="rId1"/>
          <a:stretch/>
        </p:blipFill>
        <p:spPr>
          <a:xfrm>
            <a:off x="0" y="800280"/>
            <a:ext cx="2637000" cy="4952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27280" y="537372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nistry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441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</a:rPr>
              <a:t>Small 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1341360"/>
            <a:ext cx="7632720" cy="50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all part of a learning col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speaking, address the whol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one has a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 on your colleagues’ expertise and offer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age fully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358920" y="476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reakout: Group A &amp;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503280" y="1341360"/>
            <a:ext cx="82454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oose a patterning/algebra lesson in the resource you brou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with a partner to rewrite a lesson goal to focus on a ‘big idea’, and write one or more consolidating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the PPQT to record all of your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D9B8-F346-4DA3-9A53-2AA6B2EDA1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358920" y="476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reakout: Group C &amp;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503280" y="1484280"/>
            <a:ext cx="8245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ner up (experienced vs new to coach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ect one of the lessons in the PPQ temp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actice providing feedback on sample lesson goals and consolidation ques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23EA-DC86-474F-A37D-7644275F55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63640" y="907920"/>
            <a:ext cx="693432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lenary: In Board Tea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nd receive feedback on sample lesson goals and consolidat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376360" y="3141720"/>
            <a:ext cx="4213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7280" y="657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Suggested ‘To Do’ Between Session</a:t>
            </a: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3672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6000" y="512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Mathematics Coaching Cy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7053480" cy="51976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808360" y="2205000"/>
            <a:ext cx="25574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0308"/>
                </a:solidFill>
                <a:latin typeface="Arial"/>
              </a:rPr>
              <a:t>Establish norms for working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0" dur="2000" fill="hold"/>
                                        <p:tgtEl>
                                          <p:spTgt spid="3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Professional Learning Protocols - Draft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1916280"/>
            <a:ext cx="8280360" cy="4162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Points for Building Supportive Coaching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/Co-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Lesson De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Developing Classroom Protoco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55640" y="1773360"/>
            <a:ext cx="5819760" cy="445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873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View and Discuss Opportunities Between Sess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097840" cy="311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95280" y="587700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dugains.ca/newsite/math/coachformath.htm#Professional_Learning_for_Mathematics_Leaders_and_Coaches_–_not_just_a_3_part_series_–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71640" y="5408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aching for Math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95228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What’s important about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863640" y="62064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719280" y="1700280"/>
            <a:ext cx="746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lk over to someone you’ve not talked to bef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6B49-973F-45F1-BECE-C8B60AA266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719280" y="3213000"/>
            <a:ext cx="81738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Share one idea that came up that reinforces what you already do when creating lesson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one idea that came up that might change how you create lesson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 things I’ve learned during today’s sess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 questions I still have about today’s sess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 way I see this professional learning experience impacting my wor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ther com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863640" y="512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63640" y="1592280"/>
            <a:ext cx="7416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linear growing pattern starts at -10 and grows very slowly. What might the pattern 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A79C-C4A4-45BA-9905-39C0FED5581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34920" y="4076640"/>
            <a:ext cx="7417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How could you convince someone the pattern grows slow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2:28:27Z</dcterms:created>
  <dc:creator>PSteele</dc:creator>
  <dc:description/>
  <dc:language>en-US</dc:language>
  <cp:lastModifiedBy>Information Systems</cp:lastModifiedBy>
  <dcterms:modified xsi:type="dcterms:W3CDTF">2009-10-14T15:21:42Z</dcterms:modified>
  <cp:revision>303</cp:revision>
  <dc:subject/>
  <dc:title>Slide 1</dc:title>
</cp:coreProperties>
</file>